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3AF6-1E7D-43C2-A5D0-91C3D6707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4E0E-D6D2-452B-BEF0-1E068017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168B-47CB-4DB4-BD76-1BD0C51F4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4DAA-3633-4029-B53C-94076A028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8D4A-D8AD-4B13-A91F-8AB0C59F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BFC8-6E3E-4E0E-821B-BC44BC89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B3FD-6B2E-4054-86C5-C3DE3C43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1980-63A7-4F3B-8204-F22EA7B8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EA3F-FA04-4AD0-975C-98124FA8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7F42-2A2D-4481-A82C-86DD5A37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1C9E-FDC2-4EAD-B1F3-AC466348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845D-4CAF-4CDB-BAA0-B6B29C71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12C8-6E51-4806-BD45-4CF4CC776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457200"/>
            <a:ext cx="46864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ffff00">
                      <a:alpha val="50000"/>
                    </a:srgbClr>
                  </a:outerShdw>
                </a:effectLst>
                <a:latin typeface="Arial Black"/>
              </a:rPr>
              <a:t>el verbo I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07932" dir="2700000" blurRad="0" rotWithShape="0">
                  <a:srgbClr val="ffff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3808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O 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2133720"/>
            <a:ext cx="20574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43200" y="205740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743200" y="190476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1120" y="1371600"/>
            <a:ext cx="1981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EDMON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ACAPUL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A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67080" y="4038480"/>
            <a:ext cx="198144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A PLA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 COLEG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 CIN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A DISCOTE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A CASA DE MI AMI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43200" y="495288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743200" y="3429000"/>
            <a:ext cx="35812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77120" y="2209680"/>
            <a:ext cx="220968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A CAFE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U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 PARTIDO DE FUT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 RESTAUR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A TIENDA DE 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19920" y="609480"/>
            <a:ext cx="2381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donde vas?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04920" y="304920"/>
            <a:ext cx="8610480" cy="6324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295280" y="609480"/>
          <a:ext cx="6629400" cy="5432400"/>
        </p:xfrm>
        <a:graphic>
          <a:graphicData uri="http://schemas.openxmlformats.org/drawingml/2006/table">
            <a:tbl>
              <a:tblPr/>
              <a:tblGrid>
                <a:gridCol w="3200400"/>
                <a:gridCol w="3429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-BY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ENOS DI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 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 MOR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ENAS TAR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 AFTER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ENAS NO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 EVE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TA EL LU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YOU MON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TA MAN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YOU TOMORR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04920" y="304920"/>
            <a:ext cx="8610480" cy="6324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95280" y="609480"/>
          <a:ext cx="6629400" cy="5432400"/>
        </p:xfrm>
        <a:graphic>
          <a:graphicData uri="http://schemas.openxmlformats.org/drawingml/2006/table">
            <a:tbl>
              <a:tblPr/>
              <a:tblGrid>
                <a:gridCol w="3200400"/>
                <a:gridCol w="3429000"/>
              </a:tblGrid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RO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COUR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RO QUE SI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S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NIFICO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NIFI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UPENDO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NDERFU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NTASTICO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NTA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RA VEZ, POR FAVOR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 MORE TIME , PLE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CI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NK Y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04920" y="304920"/>
            <a:ext cx="8610480" cy="6324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295280" y="609480"/>
          <a:ext cx="6629400" cy="5843880"/>
        </p:xfrm>
        <a:graphic>
          <a:graphicData uri="http://schemas.openxmlformats.org/drawingml/2006/table">
            <a:tbl>
              <a:tblPr/>
              <a:tblGrid>
                <a:gridCol w="3200400"/>
                <a:gridCol w="3429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IECEN, POR FAVO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, PLE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OS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Y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AMBA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RN IT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ECTO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MOS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’S GO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ENCION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 ATTEN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STEN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WER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04920" y="304920"/>
            <a:ext cx="8610480" cy="6324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295280" y="380880"/>
          <a:ext cx="6629400" cy="6096240"/>
        </p:xfrm>
        <a:graphic>
          <a:graphicData uri="http://schemas.openxmlformats.org/drawingml/2006/table">
            <a:tbl>
              <a:tblPr/>
              <a:tblGrid>
                <a:gridCol w="3886200"/>
                <a:gridCol w="2743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ITA, POR FAV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EAT, PLE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ERRE EL LIB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E THE B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RA EL LIB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 THE B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SE’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ON’T KN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TENGO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ON’Y HA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 EN VOZ AL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ALOU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GO UN PREGUN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 A QUES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04920" y="304920"/>
            <a:ext cx="8610480" cy="6324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295280" y="609480"/>
          <a:ext cx="6629400" cy="5432400"/>
        </p:xfrm>
        <a:graphic>
          <a:graphicData uri="http://schemas.openxmlformats.org/drawingml/2006/table">
            <a:tbl>
              <a:tblPr/>
              <a:tblGrid>
                <a:gridCol w="3200400"/>
                <a:gridCol w="3429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-BY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ENOS DI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 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 MOR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ENAS TAR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 AFTER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ENAS NO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 EVE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TA EL LU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YOU MON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TA MAN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YOU TOMORR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04920" y="304920"/>
            <a:ext cx="8610480" cy="6324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295280" y="609480"/>
          <a:ext cx="6629400" cy="5432400"/>
        </p:xfrm>
        <a:graphic>
          <a:graphicData uri="http://schemas.openxmlformats.org/drawingml/2006/table">
            <a:tbl>
              <a:tblPr/>
              <a:tblGrid>
                <a:gridCol w="3200400"/>
                <a:gridCol w="3429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-BY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ENOS DI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 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 MOR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ENAS TAR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 AFTER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ENAS NO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 EVE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TA EL LU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YOU MON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TA MAN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YOU TOMORR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 rot="20792400">
            <a:off x="902880" y="4638240"/>
            <a:ext cx="5443560" cy="137484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457200"/>
            <a:ext cx="46864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ffff00">
                      <a:alpha val="50000"/>
                    </a:srgbClr>
                  </a:outerShdw>
                </a:effectLst>
                <a:latin typeface="Arial Black"/>
              </a:rPr>
              <a:t>EL VERBO GUSTA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07932" dir="2700000" blurRad="0" rotWithShape="0">
                  <a:srgbClr val="ffff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3808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O 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133720"/>
            <a:ext cx="2286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 GU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 GU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 GU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43200" y="205740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743200" y="190476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91120" y="1371600"/>
            <a:ext cx="198108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ESCU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LIB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HIS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MATEMA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67080" y="4038480"/>
            <a:ext cx="23623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FRES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BICICLE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COMPUTADO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PLATA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362320" y="5257800"/>
            <a:ext cx="1981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57200" y="3352680"/>
            <a:ext cx="58672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77120" y="2209680"/>
            <a:ext cx="220968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 EN T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UDI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RM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CUCHAR MU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BLAR ESPA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019920" y="609480"/>
            <a:ext cx="2381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QUE TE GUSTA?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457200"/>
            <a:ext cx="46864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ffff00">
                      <a:alpha val="50000"/>
                    </a:srgbClr>
                  </a:outerShdw>
                </a:effectLst>
                <a:latin typeface="Arial Black"/>
              </a:rPr>
              <a:t>EL VERBO S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07932" dir="2700000" blurRad="0" rotWithShape="0">
                  <a:srgbClr val="ffff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3808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O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20574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43200" y="205740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743200" y="190476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91120" y="1371600"/>
            <a:ext cx="198108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ESTUDI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CH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HO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MUJ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67080" y="4038480"/>
            <a:ext cx="22100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PROFE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CAMAR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DOCT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MOD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RI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B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495288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77120" y="2209680"/>
            <a:ext cx="22096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A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IG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A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019920" y="609480"/>
            <a:ext cx="2381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QUIEN ERES TU?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21337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86200" y="3809880"/>
            <a:ext cx="2057400" cy="24386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457200"/>
            <a:ext cx="46864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ffff00">
                      <a:alpha val="50000"/>
                    </a:srgbClr>
                  </a:outerShdw>
                </a:effectLst>
                <a:latin typeface="Arial Black"/>
              </a:rPr>
              <a:t>EL VERBO ESTA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07932" dir="2700000" blurRad="0" rotWithShape="0">
                  <a:srgbClr val="ffff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3808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O STAY-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2133720"/>
            <a:ext cx="20574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43200" y="205740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743200" y="190476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91120" y="1371600"/>
            <a:ext cx="198108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DMON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TORO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LA CLASE DE ESPA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67080" y="4038480"/>
            <a:ext cx="1981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B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SI’, ASI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RE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43200" y="495288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743200" y="3429000"/>
            <a:ext cx="35812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77120" y="2209680"/>
            <a:ext cx="22096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BRE LA M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LA CO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A DERE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A IZQUIER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QUI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I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019920" y="609480"/>
            <a:ext cx="2381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ONDE ESTAS?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324480" y="5715000"/>
            <a:ext cx="2381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MO ESTAS?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5562360" y="563832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457200"/>
            <a:ext cx="46864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ffff00">
                      <a:alpha val="50000"/>
                    </a:srgbClr>
                  </a:outerShdw>
                </a:effectLst>
                <a:latin typeface="Arial Black"/>
              </a:rPr>
              <a:t>EL VERBO SER DE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07932" dir="2700000" blurRad="0" rotWithShape="0">
                  <a:srgbClr val="ffff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3808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O BE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2133720"/>
            <a:ext cx="20574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05740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743200" y="190476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1371600"/>
            <a:ext cx="1981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EDMON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MAD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ESTE COLEG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43200" y="495288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743200" y="3429000"/>
            <a:ext cx="35812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77120" y="2209680"/>
            <a:ext cx="22096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 CA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ARGEN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 MEX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FR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019920" y="609480"/>
            <a:ext cx="2381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E DONDE ERES?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3886200"/>
            <a:ext cx="24382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ADIE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ALI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A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609480"/>
            <a:ext cx="327672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ffff00">
                      <a:alpha val="50000"/>
                    </a:srgbClr>
                  </a:outerShdw>
                </a:effectLst>
                <a:latin typeface="Arial Black"/>
              </a:rPr>
              <a:t>LAS FECH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07932" dir="2700000" blurRad="0" rotWithShape="0">
                  <a:srgbClr val="ffff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3808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676520"/>
            <a:ext cx="25146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ERC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E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R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B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IN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205740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1371600"/>
            <a:ext cx="2666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PRIMER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SEGUND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TRES DE  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71800" y="3505320"/>
            <a:ext cx="16765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BR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00800" y="1295280"/>
            <a:ext cx="220968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DIA ES MANAN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DIA FUE AY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DIA ES PASADO MANAN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48320" y="533520"/>
            <a:ext cx="3600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QUE DIA ES HOY?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971800" y="2895480"/>
            <a:ext cx="3219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UAL ES LA FECHA?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733920"/>
            <a:ext cx="230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QUE MES ES?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95680" y="3505320"/>
            <a:ext cx="17528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O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IE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U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VIE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CIE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29000" y="14479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46483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OY ES MIERCOLES,EL CUATRO DE FEBR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457200"/>
            <a:ext cx="46864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ffff00">
                      <a:alpha val="50000"/>
                    </a:srgbClr>
                  </a:outerShdw>
                </a:effectLst>
                <a:latin typeface="Arial Black"/>
              </a:rPr>
              <a:t>EL CUMPLEAN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07932" dir="2700000" blurRad="0" rotWithShape="0">
                  <a:srgbClr val="ffff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3808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O BE BO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2895480"/>
            <a:ext cx="2057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CI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CI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CIO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205740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743200" y="190476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91120" y="1371600"/>
            <a:ext cx="1981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DIECI DE AGO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VEINTE DE JU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114800" y="4419720"/>
            <a:ext cx="1981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MA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DICIE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N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43200" y="495288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743200" y="3429000"/>
            <a:ext cx="35812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477120" y="32767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liz cumpleano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019920" y="609480"/>
            <a:ext cx="2381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UANDO NACISTE?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86200" y="5867280"/>
            <a:ext cx="38289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UANDO ES TU CUMPLEANOS?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2133720"/>
            <a:ext cx="16002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 rot="397800">
            <a:off x="685440" y="456840"/>
            <a:ext cx="46864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ffff00">
                      <a:alpha val="50000"/>
                    </a:srgbClr>
                  </a:outerShdw>
                </a:effectLst>
                <a:latin typeface="Arial Black"/>
              </a:rPr>
              <a:t>LOS COLOR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07932" dir="2700000" blurRad="0" rotWithShape="0">
                  <a:srgbClr val="ffff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3808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L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1600200"/>
            <a:ext cx="37339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R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MO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LANC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G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SS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MARRON /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MARILLO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CAFÉ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VER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ZU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ANARANJ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1828800"/>
            <a:ext cx="1981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VE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AMAR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 BLAN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91320" y="3352680"/>
            <a:ext cx="198108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LIBRO ES NEG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VENTANA ES BLAN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 COLOR FAVORITO ES EL AZ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5562720"/>
            <a:ext cx="4038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UAL ES TU COLOR FAVORITO?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472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867280" y="762120"/>
            <a:ext cx="2686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QUE' COLOR ES?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 rot="397800">
            <a:off x="685440" y="456840"/>
            <a:ext cx="46864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ffff00">
                      <a:alpha val="50000"/>
                    </a:srgbClr>
                  </a:outerShdw>
                </a:effectLst>
                <a:latin typeface="Baskerville Old Face"/>
              </a:rPr>
              <a:t>significad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07932" dir="2700000" blurRad="0" rotWithShape="0">
                  <a:srgbClr val="ffff00">
                    <a:alpha val="50000"/>
                  </a:srgbClr>
                </a:outerShdw>
              </a:effectLst>
              <a:latin typeface="Baskerville Old Face"/>
              <a:ea typeface="Baskerville Old Face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3808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ean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334120" y="1523880"/>
            <a:ext cx="3352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que significa....?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1600200"/>
            <a:ext cx="0" cy="472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33520" y="1600200"/>
            <a:ext cx="2685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mo se escribe...?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2514600"/>
            <a:ext cx="4114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O SE ESCRIBE PABL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E ESCRIBE C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-A-B-L-E-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O SE ESCRIBE SILL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E ESCRIBE C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-I-LL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76920" y="2514600"/>
            <a:ext cx="38862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SIGNIFICA SILL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GNIF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“CHAIR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SIGNIFICA MES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GNIF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“TABLE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6T19:34:05Z</dcterms:created>
  <dc:creator>VALERIA PALLADINO</dc:creator>
  <dc:description/>
  <dc:language>en-US</dc:language>
  <cp:lastModifiedBy>VALERIA PALLADINO</cp:lastModifiedBy>
  <dcterms:modified xsi:type="dcterms:W3CDTF">2002-02-05T22:21:30Z</dcterms:modified>
  <cp:revision>21</cp:revision>
  <dc:subject/>
  <dc:title>Slide 1</dc:title>
</cp:coreProperties>
</file>